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pct" ContentType="image/x-pict"/>
  <Override PartName="/ppt/media/image17.pct" ContentType="image/x-pict"/>
  <Override PartName="/ppt/media/image6.png" ContentType="image/png"/>
  <Override PartName="/ppt/media/image11.png" ContentType="image/png"/>
  <Override PartName="/ppt/media/image20.pct" ContentType="image/x-pict"/>
  <Override PartName="/ppt/media/image18.pct" ContentType="image/x-pict"/>
  <Override PartName="/ppt/media/image7.png" ContentType="image/png"/>
  <Override PartName="/ppt/media/image12.png" ContentType="image/png"/>
  <Override PartName="/ppt/media/image21.pct" ContentType="image/x-pict"/>
  <Override PartName="/ppt/media/image19.pct" ContentType="image/x-pict"/>
  <Override PartName="/ppt/media/image8.png" ContentType="image/png"/>
  <Override PartName="/ppt/media/image13.png" ContentType="image/png"/>
  <Override PartName="/ppt/media/image22.pct" ContentType="image/x-pict"/>
  <Override PartName="/ppt/media/image9.png" ContentType="image/png"/>
  <Override PartName="/ppt/media/image4.png" ContentType="image/png"/>
  <Override PartName="/ppt/media/image28.pct" ContentType="image/x-pict"/>
  <Override PartName="/ppt/media/image30.pct" ContentType="image/x-pict"/>
  <Override PartName="/ppt/media/image3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2.pct" ContentType="image/x-pict"/>
  <Override PartName="/ppt/media/image25.pct" ContentType="image/x-pict"/>
  <Override PartName="/ppt/media/image14.png" ContentType="image/png"/>
  <Override PartName="/ppt/media/image15.png" ContentType="image/png"/>
  <Override PartName="/ppt/media/image16.png" ContentType="image/png"/>
  <Override PartName="/ppt/media/image23.pct" ContentType="image/x-pict"/>
  <Override PartName="/ppt/media/image24.pct" ContentType="image/x-pict"/>
  <Override PartName="/ppt/media/image26.pct" ContentType="image/x-pict"/>
  <Override PartName="/ppt/media/image27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5486400" cy="41148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49039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479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2482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2479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9F1358-6E7B-4E26-9A19-A6273ADC83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371600" y="763560"/>
            <a:ext cx="5000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94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39848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6B9D37-C019-4DEA-B812-87CE074F0BA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0" y="9555120"/>
            <a:ext cx="32479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0" y="-360"/>
            <a:ext cx="32479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398480" y="-360"/>
            <a:ext cx="32482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371600" y="75420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77960" y="4778280"/>
            <a:ext cx="6216480" cy="45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7640" y="3436200"/>
            <a:ext cx="476388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818800" y="123624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7640" y="343620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818800" y="343620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153360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988280" y="1236240"/>
            <a:ext cx="153360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598920" y="1236240"/>
            <a:ext cx="153360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7640" y="3436200"/>
            <a:ext cx="153360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988280" y="3436200"/>
            <a:ext cx="153360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598920" y="3436200"/>
            <a:ext cx="153360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637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23245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818800" y="1236240"/>
            <a:ext cx="23245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79440" y="-186120"/>
            <a:ext cx="475776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6375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818800" y="1236240"/>
            <a:ext cx="23245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7640" y="343620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23245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818800" y="123624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818800" y="343620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818800" y="123624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7640" y="3436200"/>
            <a:ext cx="476388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673440"/>
            <a:ext cx="4479840" cy="26532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79440" y="3679920"/>
            <a:ext cx="2176560" cy="25884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NE LAPTOP PER CHI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1252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3440" indent="-1000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1936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1936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1936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96640" y="3940200"/>
            <a:ext cx="27608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is works are licensed under a Creative Commons Attribution 2.5 License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4325760" y="3649680"/>
            <a:ext cx="1143000" cy="33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image" Target="../media/image21.pct"/><Relationship Id="rId3" Type="http://schemas.openxmlformats.org/officeDocument/2006/relationships/image" Target="../media/image22.pct"/><Relationship Id="rId4" Type="http://schemas.openxmlformats.org/officeDocument/2006/relationships/image" Target="../media/image23.pct"/><Relationship Id="rId5" Type="http://schemas.openxmlformats.org/officeDocument/2006/relationships/image" Target="../media/image24.pct"/><Relationship Id="rId6" Type="http://schemas.openxmlformats.org/officeDocument/2006/relationships/image" Target="../media/image25.pct"/><Relationship Id="rId7" Type="http://schemas.openxmlformats.org/officeDocument/2006/relationships/image" Target="../media/image26.pct"/><Relationship Id="rId8" Type="http://schemas.openxmlformats.org/officeDocument/2006/relationships/image" Target="../media/image27.pct"/><Relationship Id="rId9" Type="http://schemas.openxmlformats.org/officeDocument/2006/relationships/image" Target="../media/image28.pct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ct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ct"/><Relationship Id="rId16" Type="http://schemas.openxmlformats.org/officeDocument/2006/relationships/image" Target="../media/image18.pct"/><Relationship Id="rId17" Type="http://schemas.openxmlformats.org/officeDocument/2006/relationships/slideLayout" Target="../slideLayouts/slideLayout2.xml"/><Relationship Id="rId1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2438280"/>
            <a:ext cx="5486400" cy="76212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OLPC Current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obert D. Fa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VP International Op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obert@laptop.or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-76320"/>
            <a:ext cx="5486400" cy="167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OLPC Project Rollouts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ting XOs is the easy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ing them is h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PC can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ownership, management and commitment is the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Rollout Keys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men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structure, Accessory,  &amp; Distribution Invest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air and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Different Solutions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two deployments are a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s are ev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strategic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5638680" cy="2475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514600" y="1143000"/>
            <a:ext cx="609480" cy="227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057400" y="1922400"/>
            <a:ext cx="533520" cy="363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3048120" y="1625760"/>
            <a:ext cx="609480" cy="2030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3962520" y="1219320"/>
            <a:ext cx="609480" cy="3729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272880" y="1752480"/>
            <a:ext cx="870120" cy="241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7"/>
          <a:stretch/>
        </p:blipFill>
        <p:spPr>
          <a:xfrm>
            <a:off x="1752480" y="1371600"/>
            <a:ext cx="381240" cy="378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8"/>
          <a:stretch/>
        </p:blipFill>
        <p:spPr>
          <a:xfrm>
            <a:off x="3276720" y="990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9"/>
          <a:stretch/>
        </p:blipFill>
        <p:spPr>
          <a:xfrm>
            <a:off x="3124080" y="1295280"/>
            <a:ext cx="60984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Uruguay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CEIBAL, 1:1 during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ehensive saturating competitive b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2,000 XO’s delivered, more to 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government 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733920" y="152280"/>
            <a:ext cx="13716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Nigeria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00 XO’s donated by private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sanctioned school deploy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llout, school implementation run by a second private sector foun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505320" y="228600"/>
            <a:ext cx="158724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Lebanon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lestinian Refugee C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NGO orchast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stics/Rollout: UNR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Support: Norwegian People’s A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809880" y="152280"/>
            <a:ext cx="132732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Models that Work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oneering and Leadershi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onal and Global Impact: Make it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PC gets more effective,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OLP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are w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we do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can we do more of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What is OLPC?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77640" y="11426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PC is a non-profit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ed i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all to 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 and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ated Open Source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ke-up an indu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-152280"/>
            <a:ext cx="4757760" cy="14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OLPC: The laptop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289584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O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months of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600,000 shipp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0,000 by year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429000" y="1866960"/>
            <a:ext cx="152388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Ordering Logistics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77640" y="11426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facturing happens at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/80 advance payment/letter of cred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loyment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+/- days from order to shi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guage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loyment strate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G1G1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77640" y="99036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an XO and Give an XO to a Ch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2007, 85,000 X0s in 7 we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gger Presence, Exec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obal Re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71360" y="357120"/>
            <a:ext cx="51199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Key Partners from Private &amp; Public Secto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36600" y="1062000"/>
            <a:ext cx="1120680" cy="4255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403880" y="1352520"/>
            <a:ext cx="745920" cy="3398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1789200" y="1020600"/>
            <a:ext cx="777960" cy="3272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09880" y="1187280"/>
            <a:ext cx="496800" cy="2844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3324240" y="1892160"/>
            <a:ext cx="1427040" cy="2113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295200" y="2222640"/>
            <a:ext cx="1079640" cy="2030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2370240" y="1808280"/>
            <a:ext cx="585720" cy="6429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3822840" y="896760"/>
            <a:ext cx="414360" cy="414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9"/>
          <a:stretch/>
        </p:blipFill>
        <p:spPr>
          <a:xfrm>
            <a:off x="1623960" y="1725480"/>
            <a:ext cx="382680" cy="3844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0"/>
          <a:stretch/>
        </p:blipFill>
        <p:spPr>
          <a:xfrm>
            <a:off x="3733920" y="2590920"/>
            <a:ext cx="699840" cy="2016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1"/>
          <a:stretch/>
        </p:blipFill>
        <p:spPr>
          <a:xfrm>
            <a:off x="420840" y="2803680"/>
            <a:ext cx="581040" cy="5810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2"/>
          <a:stretch/>
        </p:blipFill>
        <p:spPr>
          <a:xfrm>
            <a:off x="3033720" y="2513160"/>
            <a:ext cx="384120" cy="777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3"/>
          <a:stretch/>
        </p:blipFill>
        <p:spPr>
          <a:xfrm>
            <a:off x="4610160" y="2762280"/>
            <a:ext cx="358560" cy="5284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4"/>
          <a:stretch/>
        </p:blipFill>
        <p:spPr>
          <a:xfrm>
            <a:off x="533520" y="1676520"/>
            <a:ext cx="711000" cy="3888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5"/>
          <a:stretch/>
        </p:blipFill>
        <p:spPr>
          <a:xfrm>
            <a:off x="2736720" y="2050920"/>
            <a:ext cx="12960" cy="12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6"/>
          <a:stretch/>
        </p:blipFill>
        <p:spPr>
          <a:xfrm>
            <a:off x="1371600" y="2971800"/>
            <a:ext cx="1295280" cy="2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Global Numbers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22035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Global Network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on collective works,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-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ng OLPC Deploy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Camrbridge, MA
April 23-27, 2007
</dc:description>
  <dc:language>en-US</dc:language>
  <cp:lastModifiedBy>Robert Fadel</cp:lastModifiedBy>
  <dcterms:modified xsi:type="dcterms:W3CDTF">2008-11-17T16:15:33Z</dcterms:modified>
  <cp:revision>106</cp:revision>
  <dc:subject/>
  <dc:title>One Laptop per Child</dc:title>
</cp:coreProperties>
</file>